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5C0-94C3-4D92-B104-211FFA5A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B4D-2414-45D5-8551-54B2D18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4FD-2239-43A8-8CFE-B80DEC8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952-F894-43C8-96AF-B9A0C928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B00-4C68-47AF-87BD-6FCFCCCE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341-2D15-48F0-8779-2C2340F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F6C-F89A-48FC-9B07-456DF82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9713-ECC7-4D7B-A9B7-9CBFD9AA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0F5-C2EB-4204-A6AE-2236A982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119B-720E-40EB-B0FE-46776653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6F50-A416-4D07-AF54-7F8210A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E97-5DA2-4739-8C56-EC327C2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AE42-6731-4FD2-912B-42E1E16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079-8BBB-4EFA-8028-1A45F60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98E-5464-4A1D-B119-9ED8FC4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2F07-CFDF-44AE-8750-33028F60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54E-9887-4127-829E-4931E8EF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1AC6-CB81-4B48-8AEB-D0BC43B0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6DB3-9E4E-4387-BBFE-277CA321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4849-08EE-4B69-B40A-F24EAFEF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7177-EADD-439C-81D4-4A6B312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715D-F9C9-46B5-88DB-C7B5D3C3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0EF-1328-4EA5-AFF7-5295DE7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0EFF-10C1-437B-AC1C-0198E1C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A714-C623-4F74-93AE-1EAA91A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9C9A-6B93-4B62-8E8B-3DD1F6F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2B80-8215-4427-9B7A-41745C5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FB35-7174-4881-8479-7115503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957F-B261-4042-B8B9-C5FAB417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9155-159D-4F99-8765-4EB49A9B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A753-F0AA-4D95-A193-017905E5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6519-C79D-46A7-8A91-267A011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5E75-6EC5-4BD3-95CF-D7A47A3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9F8-CC97-43E7-B05C-4ADB9DFF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AC88-596D-4B60-A96C-88088BDF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918D-5A93-4499-AEA8-3118862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F32C-1120-4832-A298-A0D1E7E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1C1D-C3E6-4E30-A756-7AA74751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D80B-BFDE-4926-BC5C-82657DB6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9FF0-5EB9-4F35-985E-7F08F97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0CD6-376D-44C6-90D1-123FBC2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83A9-2DCB-40EF-B434-75A8B5FC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B90C-9C56-4889-BE75-815F4CD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DDE-8A50-421A-BD1A-0AB194E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B61-307F-45EB-A1F2-89E233A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EAF-6E39-4316-9E14-8D1C09C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776-42EB-47B1-AFCA-4B2552C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68F-2DC4-42C6-82C7-BE9954F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A72C-4E29-422C-AFED-90E2CDC658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021F-5D3F-41B5-B4DB-F6CBEF897E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04B-5AD8-4483-951F-F6E2BFEF8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1DB0-AF1A-4A39-B695-523056F19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5th Grade Social Studi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udents should realize their current position in the world is a result of hundreds of years of movement of people and ideas.  As adolescent Americans, they come to realize the global community is more easily accessible than expected due to technology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istorical Contex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the United States dates back about 400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China and Vietnam both date back more than dates back more than 2,000 year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pact of War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Vietnam, the Vietnam War is referred to as the U.S. W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,000,000 Vietnamese (10% of the population) were killed or woun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fluence of Invention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pow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imilarities and Differences Among Cultur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the thousands of miles of separation, people of China, Vietnam, and America are, well…just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basic needs are the same, but some of our cultural values vary because of history an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is valued and teachers ar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sts are often treated with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, music and literature are all important in the different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face” is important in China and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of nutritional value is considere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of the same sex might hold hands in public, but not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ina, Vietnam…or Raleigh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ll view a picture each day with a caption, and they will have to decide if the picture is from far-away destinations such as China or Vietnam, or if it was taken in their city of residence -- Ralei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ill make them realize the Western influences present in Asia, as well as the Asian influences in their home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ina, Vietnam, or Ralei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beef, peanuts, jalapenos, mint, and shrimp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613480" cy="37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 Cali Noodle House in Ralei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iversity Fac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na has 1.3 b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ed States has 30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tnam has 8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ich Countries are Represented by the Students in our Roo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ents have brought customs and belief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544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urrent Even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 Olympic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of China’s economy as the U.S. economy fa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ming Vietnamese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rights and fair pay for wor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ovement of Goods, People and Idea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percentage of our shirts, shoes and book bags in this class were made in China?  Vietnam?  The United Sta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0:57Z</dcterms:created>
  <dc:creator>William Wheeler</dc:creator>
  <dc:description/>
  <dc:language>en-US</dc:language>
  <cp:lastModifiedBy> </cp:lastModifiedBy>
  <dcterms:modified xsi:type="dcterms:W3CDTF">2008-04-24T01:55:27Z</dcterms:modified>
  <cp:revision>32</cp:revision>
  <dc:subject/>
  <dc:title>5th Grade Social Studies</dc:title>
</cp:coreProperties>
</file>